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4BBED-BA7D-4904-8EE6-47A4EEA94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B989B-2F7C-4D4D-A3C5-CACAB7DAE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75EDD-732D-499C-979F-871DAA07A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E4511-B6DD-4CF3-B8E0-9E3B76F66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4A80B-7108-455B-AF86-8DEEBEF69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E4091-4F36-40BD-922F-FB3D8AECB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BCEF7-1D22-4B0E-9678-679754493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76853-2591-4089-839D-0FCD691CD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0B4E4-1EDD-4B49-9AB0-C61D9C16E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182BD-969A-4995-A296-9FE6BDF42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CEF33-9280-4BA4-8044-2F583D258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1AD2C-03C5-4560-995E-F2B26E27C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4E15E-BFC3-4335-8B33-C3FDBF60D3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Gill Sans Ultra Bold"/>
              </a:rPr>
              <a:t>Trace Evidenc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ce Evid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ce evidence = transfer evid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erials that are transferred from one person or place to another person or pl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irs, fibers, glass, soil, and pa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ed microscopic evid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imary Transf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so known as direct transf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fer of materials directly from the crime scene to a person or ob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rd’s Exchange Princi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: if you own a cat, there is direct transfer of cat hair from the cat to your cloth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ary Transf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fer of materials from the object or person from the crime scene to a new object or per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: burglar robs the house with a cat – cat hair will cling to burglar’s clothing – the cat hair will then be transferred to burglar’s getaway ca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me Is NOT On  Your S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longer the time since the initial contact, the more the evidence is l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idence is not permanent, it is easily exchange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alyzing Evid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lyzing evidence usually involves comparing samples to determine a common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control samples (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xemplar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that are from a known orig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ensic Ge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ientific application of earth sciences to legal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es, analyzes, and compares earth materials such as soils, rocks, minerals, and fossils on or in a receptor to possible source are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ensic Ge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08 -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ocumented case credited to Georg Popp of Germa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d in both criminal and civil c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Soi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il is a mixture of minerals, organic material, botanical and animal products and debris, and anthropogenic (human-made) mater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7T10:56:34Z</dcterms:created>
  <dc:creator>bpalme</dc:creator>
  <dc:description/>
  <dc:language>en-US</dc:language>
  <cp:lastModifiedBy>bpalme</cp:lastModifiedBy>
  <dcterms:modified xsi:type="dcterms:W3CDTF">2005-10-17T11:07:05Z</dcterms:modified>
  <cp:revision>2</cp:revision>
  <dc:subject/>
  <dc:title>Trace Evidence</dc:title>
</cp:coreProperties>
</file>